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3552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060D5C8-0F48-409D-8EDE-241D635364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37A4ED1-97D7-42F6-B722-42F98C88EA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3C5B8FE-67BC-4FBA-A665-D52725C14E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FC832E4-B3B9-4941-B964-CBD86687C6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0EC06E0-E714-4CAE-B983-7C45560A46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D7F7B17-347F-4645-BC96-63D69AE088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722EECC-DCFD-492E-A642-165DA210B0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0B7B24A-B0DA-49E5-928C-D6D72BF1B9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52DFEC6-00BD-4FB9-B5FE-A91B8C3725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40ABAC1-DA0A-453C-89AF-C84F8A8A7E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D249374-6B14-4F61-8D69-028AA4645E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6E5DC8B-54E7-4728-9593-B2F613024D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07EDCA1-F158-4C02-A391-7236645A45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37D3804-1213-4680-8DB3-C64697A11D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DE234E5-032D-4304-B3FF-FE0DBF40E0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C642DB5-E933-4406-A21A-E1AF2A281F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A639C98-9510-4546-AA66-6752D7D504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83507EE-698C-48E7-B706-92D8DD6B54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63AD13B-7EB0-4F18-8EA8-DE9A9F14EB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B448F6D-F008-4146-AD05-BD4FD58521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AE5D7DE-20AF-449A-B2CB-B517745A5E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EFDCF08-D5C0-4B14-A929-3F45DAB968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4D0F960-089E-4DBE-B8B2-A977A331FF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5044651-2A47-428E-88E8-B107FF5B7B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416C298-9DD7-4DF3-ADE9-03BF0264EC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2B92E87-1C5D-404C-8F57-AABDC37876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4E5B808-CD3A-4B18-B041-D2F0AE4504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C3E3907-DBBF-48DC-BCD5-80FE01366D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63B2ED5-D6FA-4C8A-9971-139EA76D78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9230BF8-6E52-46A0-88E3-2653950D54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C571907-26F0-4BD1-887C-B36038E4C1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E2F36A4-D08D-4EC0-BCF3-C0EA13884B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6249401-8C04-40EF-8173-4942B09DED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14A692A-10D4-49A6-A798-FB52AF544A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397D0CA-0ABA-4B84-BBA8-45F6393353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3F7F9CA-4413-4C78-BAB6-DAEEB1B300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DBA6359-C66C-4A0F-BCAE-6DBC17E830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D82BE22-303A-4151-B4B2-B2340DDDBB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16A26E8-7E87-4680-8D27-330077CD1E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5CF4463-84E6-4AA8-89A7-4222E2D964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D0FCFB7-2C78-44C3-968B-3EDD9A792E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18D029E-91A9-466E-B8F8-D7F62FB5C6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4" descr=""/>
          <p:cNvPicPr/>
          <p:nvPr/>
        </p:nvPicPr>
        <p:blipFill>
          <a:blip r:embed="rId2"/>
          <a:stretch/>
        </p:blipFill>
        <p:spPr>
          <a:xfrm>
            <a:off x="0" y="0"/>
            <a:ext cx="960264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87040" y="6600600"/>
            <a:ext cx="7736040" cy="23184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geRef"/>
          <p:cNvSpPr/>
          <p:nvPr/>
        </p:nvSpPr>
        <p:spPr>
          <a:xfrm>
            <a:off x="8731080" y="6553080"/>
            <a:ext cx="47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EF70C1C5-0F5F-455D-9D7D-3B133E127D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6"/>
          <p:cNvSpPr/>
          <p:nvPr/>
        </p:nvSpPr>
        <p:spPr>
          <a:xfrm>
            <a:off x="914400" y="0"/>
            <a:ext cx="9381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7" descr="print_ga"/>
          <p:cNvPicPr/>
          <p:nvPr/>
        </p:nvPicPr>
        <p:blipFill>
          <a:blip r:embed="rId3"/>
          <a:srcRect l="0" t="0" r="0" b="10662"/>
          <a:stretch/>
        </p:blipFill>
        <p:spPr>
          <a:xfrm>
            <a:off x="938160" y="133200"/>
            <a:ext cx="8478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1"/>
          <p:cNvGrpSpPr/>
          <p:nvPr/>
        </p:nvGrpSpPr>
        <p:grpSpPr>
          <a:xfrm>
            <a:off x="0" y="0"/>
            <a:ext cx="9602640" cy="6859440"/>
            <a:chOff x="0" y="0"/>
            <a:chExt cx="9602640" cy="6859440"/>
          </a:xfrm>
        </p:grpSpPr>
        <p:pic>
          <p:nvPicPr>
            <p:cNvPr id="44" name="Picture 2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264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49"/>
            <p:cNvSpPr/>
            <p:nvPr/>
          </p:nvSpPr>
          <p:spPr>
            <a:xfrm>
              <a:off x="1228680" y="630360"/>
              <a:ext cx="3103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50" descr=""/>
            <p:cNvPicPr/>
            <p:nvPr/>
          </p:nvPicPr>
          <p:blipFill>
            <a:blip r:embed="rId3"/>
            <a:srcRect l="12649" t="94194" r="71422" b="0"/>
            <a:stretch/>
          </p:blipFill>
          <p:spPr>
            <a:xfrm>
              <a:off x="1224000" y="6127920"/>
              <a:ext cx="1530360" cy="39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48" descr="print_ga"/>
          <p:cNvPicPr/>
          <p:nvPr/>
        </p:nvPicPr>
        <p:blipFill>
          <a:blip r:embed="rId4"/>
          <a:srcRect l="0" t="0" r="0" b="10631"/>
          <a:stretch/>
        </p:blipFill>
        <p:spPr>
          <a:xfrm>
            <a:off x="1268280" y="225360"/>
            <a:ext cx="1798920" cy="154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epd.org/Documents/305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epd.org/NPDES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Frank.Carubba@dnr.state.ga.us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63440" y="1089000"/>
            <a:ext cx="9075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For Storm Water Dis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Associated with Constructio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9933"/>
                </a:solidFill>
                <a:latin typeface="Arial Black"/>
              </a:rPr>
              <a:t>March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444840" y="3517920"/>
          <a:ext cx="257508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3517920"/>
                    <a:ext cx="2575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eligible for this exemp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rastructure maintenance 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comply with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ss grad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ed by the end of each day with temporary or permanent stabiliz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d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20 calendar d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ed at the end of the maintenance proj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harges into, or within One Mile Upstream of and within the Same Watershed as, Any Portion of a Biota Impaired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when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tice of Intent i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Impaired Stream Segment has been listed for the criteria violate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F” 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M” 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Category 4a, 4b or 5, and the potential cause is either “NP” (nonpoint source) or “UR” (urban runoff),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the ES&amp;PC Plan must include at least four (4) of the  BMPs listed in Part III.C.2. (a) – (u) of the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305(b)/303(d) List Documents (Fin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rgia’s 2012 and subsequent “305(b)/303(d) List Documents (Final)”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ea typeface="Times New Roman"/>
                <a:hlinkClick r:id="rId1"/>
              </a:rPr>
              <a:t>epd.georgia.g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S Data Sets for biota impaired streams are available on the GAEPD website in ESRI Geodatabase 9.1 format and ESRI Shapefil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a violated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F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/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cause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NP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nonpoint sou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U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urban run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must address any site-specific conditions or requirements included in the TMDL Implementation Plan, if the TMDL Implementation Plan fo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nalized at least six months prior to submittal of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ce of I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MDL Implementation Plans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III.C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Vio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o M (Impaired Macroinvertebrate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P (Nonpoint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a (Water not supporting its use and                                 a TMDL has been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MDL for Sediment – Febr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ted Sediment Loading Rate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Area – 47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 Rate – 422 tons/sq mile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tal Load – 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ing Rates that Big Creek can assimilate and achieve water qualit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 (Point Sources) – 0.16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(Nonpoint Sourcs) – 13 tons/sq mile/y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– 622 tons/ 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7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Sediment Loa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DL for Sedimen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22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eduction of Sediment Load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Implementation Plan –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local municipal and county E&amp;SC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Erosion and Sedimentation Act and applicable Rule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GSWCC Education and Training Certificatio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78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ite-specific conditions or requirements have been included in the TMDL Implementation Plan for the applicable impaired stream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PDES construction activities are considered a significant source of pollution and compliance with the Permits should lead to sediment loading for construction sites at or below applicable targe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8960" y="1506240"/>
            <a:ext cx="60040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0640" y="2259000"/>
            <a:ext cx="8445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ffective September 24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1 – Stand Alon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2 – Infrastructur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3 – Common Development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Current NPDES General Permit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on the GAEPD and GSWCC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 u="sng">
                <a:solidFill>
                  <a:srgbClr val="4f7296"/>
                </a:solidFill>
                <a:uFillTx/>
                <a:latin typeface="Arial"/>
              </a:rPr>
              <a:t>gaswcc.georgi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2095560" y="298764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320" y="1936440"/>
            <a:ext cx="81583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osion, Sedimentation and Pollution Control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&amp;PC Plan is Cr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he Plan must be prepared in accordance with Part IV of the Permit and the Plan must be implemented and the Plan must provide for compliance with the Perm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Documents and Settings\fcarubba\Local Settings\Temporary Internet Files\Content.IE5\23TN59Q2\MC900360580[1].wmf"/>
          <p:cNvPicPr/>
          <p:nvPr/>
        </p:nvPicPr>
        <p:blipFill>
          <a:blip r:embed="rId1"/>
          <a:stretch/>
        </p:blipFill>
        <p:spPr>
          <a:xfrm>
            <a:off x="3362400" y="2916360"/>
            <a:ext cx="2346120" cy="218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 must include the applicabl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S&amp;PC Plan Check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ed the GSWCC, available on both the GAEPD and GSWCC websit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Ps identified in Part III.C.2.(a) – (u) of the new Permits have been listed in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endix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S&amp;PC Plan Checklist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&amp;PC Plan Checklist should not be used in lieu of reading and understanding all of the Permit condition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cklis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ress Parts I, II, III, V or VI  of the Per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on-site wetlands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aters located on and within 200 feet of the constructi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ineation of the applicable 25-ft and/or 50-ft buffers adjacent to State waters and any additional buffers required by a Local Issuing Author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all sampling locations and locations where storm water is discharged to a surfac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per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eorgia Erosion and Sedimentation 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local Erosion and Sedimentation Control Ordin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WA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any and all rivers, streams, creeks, branches, lakes, reservoirs, ponds, drainage systems, springs, wells, and other bodies of surface or subsurface wat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ying within or forming a part of the boundaries of the State, which are not entirely confined and retained completely upon the property of a single individual, partnership, or cor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uffer Determinations for Tidal Creeks and Saltwater Mar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udson H. Turner, EPD Director, April 2014 Memorandum - available on the GAEPD website, </a:t>
            </a:r>
            <a:r>
              <a:rPr b="0" lang="en-US" sz="20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for Identification of Intermittent and Perennial Streams and Their Ori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 4.11, North Carolina Division of Water 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ffective September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oundwater base flows are present, the stream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ll require a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eature is dry, then the stream may be intermittent or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re is no flowing water within 48 hours of a rain event, the drainage feature is most probably ephemeral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well defined channel and poi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rested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– vegetation wrested from the channel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normal stream flo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ave a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on State Waters are measured from the point whe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egetation has been wrested by normal stream flow or wave actio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ested Vege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vement of water that removes soil, debris and vegetation, creating a clear demarcation between water flow and vegetative growth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Stream Buffer Requirements: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warm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25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ld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50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-ft or 50-ft buffer requirem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cable to ponds, lakes, and reserv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Additional Stream Buffer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al Streams (Excluding Trout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heads and Seawalls on Lake Oconee and Lake Sin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Repair and/or Upgrade of SWCD Watershed Dams when under the Technical Supervision of the USDA N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rossing for Utility Lines for any EMC or Public Utility unde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tory Jurisdiction of the PSC and/or FER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any Cable Televi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of-Way Posts, Guy Wires, Anchors, Survey Markers and the Replacement of or Maintenance of Existing Utility Structures under the regulatory jurisdiction of the PSC and/or FERC or roadway projects undertaken by DOT or any municipality or coun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ON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lin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43120" y="431964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6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ing and understanding the Permits are essential to maintaining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iration Date – July 31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"/>
          <p:cNvPicPr/>
          <p:nvPr/>
        </p:nvPicPr>
        <p:blipFill>
          <a:blip r:embed="rId1"/>
          <a:stretch/>
        </p:blipFill>
        <p:spPr>
          <a:xfrm>
            <a:off x="3511440" y="2908440"/>
            <a:ext cx="222912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diment storage requirements and perimeter control BMPs for the INITIAL PHASED SUB-PART OR SEGMENT of the linear infrastructure project and ALL SEDIMENT BASIN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urbed acreage of the initial phased sub-part or segmen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project must be equal to or greater than 10% of total disturbed acreage but not less than one(1) 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m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rti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 rainfall once every 24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 any    non-working Saturday, Sunday and Federal holiday until  a NOT 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rainfall may be suspended if all areas of the site have underg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blished a crop of annual vegetation and a seeding of target perenn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11440" y="428796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063800"/>
            <a:ext cx="86425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ination of Cover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-2562120"/>
            <a:ext cx="4243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9160" y="2174400"/>
            <a:ext cx="424332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33720" y="2650680"/>
            <a:ext cx="4244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2286000"/>
            <a:ext cx="347184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Snoakes\My Documents\My Pictures\BMP1_35A.gif"/>
          <p:cNvPicPr/>
          <p:nvPr/>
        </p:nvPicPr>
        <p:blipFill>
          <a:blip r:embed="rId1"/>
          <a:stretch/>
        </p:blipFill>
        <p:spPr>
          <a:xfrm>
            <a:off x="4648320" y="1892160"/>
            <a:ext cx="4467240" cy="375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mary, Secondary or Tertiary) may submit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ice of Termin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OT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ion activities have been completed and the entire development has undergone final stabiliza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in the new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orm water discharges associated with construction activities have cea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ittee may submit a Notice of Termination (NOT)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for each phase of the infrastructure project, not to exceed four (4)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urbed acreage for each phase must be equal or greater than 25% of the total disturbed acreage – except for the final phase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disturbed acreage for the final phase must be equal to or greater than 10% of the total disturbed acre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es may submit a Notice of Termination (NOT) if coverage under the 2013 NPDES General Permit No. GAR100002 is not required for the Primary Permittee of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tiguous Areas of Land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een redefined in the 2013 NPDES General Permit No. GAR100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1360" y="2009520"/>
            <a:ext cx="815796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Notice of Termination –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 of the NOI previously submitted for coverage under the 2013 NPDES General Permits for Construction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a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re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written justification why sampling was not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PS locations of the beginning and end of each phase of a linear infrastructure construction project and if applicable, maps identifying significant landma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that coverage under the 2013 NPDES General Permit No. GAR100002 is no longer required (e.g., resul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guous land disturb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than one (1) acre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tin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8680" y="1910880"/>
            <a:ext cx="8158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imary 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a Common Development may submit a NOT, even if 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struction activitie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en completed, if and only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ctivities have stopped for at least 90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bilization has been implemented by the Primary Permittee and all Secondary Permitt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condary Permittees have submitted a NOT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tiary Permittee – Common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imary Permittee must notify the legal title holders of each remaining lot(s) that these lot Owners or Operators will become Tertiary Permittee(s)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ble to all lots, including lots that are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TIARY PERMIT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ither the Owner or Operator of a remaining lot(s) within a Common Development where the Primary Permittee and all Secondary Permittees have submitted a NOT in accordance with the Permit (excluding utility companies and contractors working under a Blanket NO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360" y="1838160"/>
            <a:ext cx="815796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repared and submitted.  For each NOI submitted, the Tertiary Permittee must submit a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I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rtiary Permittee for the entire construction site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f the owner’s construction site is less than five acres and total land disturbance within each individual lot is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submit a NO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the permittee failed to submit a NOI Re-Issuance         Notification by deadline (December 24, 201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mply with this requirement shall constitute a violation of the Georgia Water Control Act for each day until an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initial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I – Version 20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37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permittee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pare and submit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 new ES&amp;PC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ccordance with Part IV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y all applicable 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in accordance with Part II.D of the perm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1360" y="1837800"/>
            <a:ext cx="8157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owner may submit the NOI – Initial Notification as either a Primary Permittee or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must provide copies of the Plan to all Secondary Per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are solely responsible for the payment of NPDES General Permit fees for all planned land disturbing activities – including land disturbing activities planned by any Secondary Permitte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7080" y="1214280"/>
            <a:ext cx="78868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6480" y="2030400"/>
            <a:ext cx="815832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EPD Contact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k M. Car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(404) 651-8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Frank.Carubba@dnr.state.ga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922560" y="1847880"/>
            <a:ext cx="210996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B-CONTRACTO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an entity employed or retained by the permittee to conduct any type of construction activity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as defined in this permit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a construct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Sub-contractors must complete the appropriate certification course approved by the Georgia Soil and Water Conservation Commission in accordance with the provisions of O.C.G.A. §12-7-19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71720"/>
            <a:ext cx="81583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ERTIFIED PERSONN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s a person who has successfully completed the appropriate certification course approved by the GSWCC. (O.C.G.A.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7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ubcontra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&amp;SC Inspe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tory Enforcement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ign Professionals and Plan Review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4\Lines\BD14801_.gif"/>
          <p:cNvPicPr/>
          <p:nvPr/>
        </p:nvPicPr>
        <p:blipFill>
          <a:blip r:embed="rId1"/>
          <a:stretch/>
        </p:blipFill>
        <p:spPr>
          <a:xfrm>
            <a:off x="1859040" y="390672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IGUOUS AREAS OF LAND DISTURBA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urposes of this permit, “include those areas of land disturbances solely separated by drilling and boring activities, water of the State and adjacent State-mandated buffers, roadways and/or railways.  In addition, contiguous areas of land disturbances include all areas of land disturbances at a sole roadway intersection and/or junction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1794960"/>
            <a:ext cx="815796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under this perm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d for infrastructure construction projects that consist solely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for the original purpose of the facility that is performed to maint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al line and grad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n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apacity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596960" y="23637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1825560" y="5627520"/>
            <a:ext cx="5715000" cy="1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8:21:18Z</dcterms:created>
  <dc:creator>Ali Wagner</dc:creator>
  <dc:description/>
  <dc:language>en-US</dc:language>
  <cp:lastModifiedBy>Carubba, Frank</cp:lastModifiedBy>
  <cp:lastPrinted>2014-05-08T15:05:27Z</cp:lastPrinted>
  <dcterms:modified xsi:type="dcterms:W3CDTF">2015-02-26T16:42:53Z</dcterms:modified>
  <cp:revision>1122</cp:revision>
  <dc:subject/>
  <dc:title>Title goes here – this sample illustrates a two-line title This is a sample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\MMC Medium Fonts.pot</vt:lpwstr>
  </property>
</Properties>
</file>